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C78-23E1-47F5-8890-3F11AF023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D2E-FD99-4B01-B337-4D21CB02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1E3B-2847-41E0-8D9F-644E0D91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DBB0-1A0C-42CC-A2E5-D02450B8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5E3-7762-405E-81EA-34295F28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31BC-47A2-4F23-8206-7CEB8B8A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AFA-3A6D-4E0E-B4D3-684CF4B7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314-48D5-4F3A-9545-1CD56F56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CC4-90DE-476E-A6DB-690F01D3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E15-F2F7-4D77-A334-43383F89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E379-02D4-4104-A624-0F812E5B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8A0-313A-4D79-85D7-42F57186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7360-D3A7-4F82-9D46-890C4B310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5545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3399"/>
                </a:solidFill>
                <a:latin typeface="Arial"/>
              </a:rPr>
              <a:t>Congresul Spiritualităţii Româneşti: Lucrările în plen – Casa de Cultură a Studenţilor Alba Iu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„Cine va păzi clopoţeii?” – intrare liberă pentru copii – Teatrul de Păpuşi „Prichindel” Alba Iulia (sala Teatrulu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d60093"/>
                </a:solidFill>
                <a:latin typeface="Arial"/>
              </a:rPr>
              <a:t>Lansarea volumului „Autobiografia generalului Vasile Barbu, fost comandant adjunct al ‘Gărzilor Naţionale’ de la Alba Iulia din 1 Decembrie 1918, ca izvor istoric (1908-1942)”, realizat de Gabriela Mircea şi Florin Cristian Bota – Sala Unir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Congresul Spiritualităţii Româneşti: Vernisajul expoziţiei „Unirea lui Mihai Viteazul - 410 ani de la asasinarea Voievodului” – Hotel Transilv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00  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Vernisajul expoziţie de artă Ovidiu Platon, Fidias Vasquez, Adelina Marcu – Spaţiile R.Y.M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7280" y="549360"/>
            <a:ext cx="6223320" cy="113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lba Iulia-program 29 noiembrie 201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 rot="1006800">
            <a:off x="6516360" y="1628640"/>
            <a:ext cx="1944720" cy="180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3789360"/>
            <a:ext cx="2808360" cy="266400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1154400">
            <a:off x="6516000" y="4868640"/>
            <a:ext cx="232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 V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ŢI REGRET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i care vor veni în această zi vor beneficia şi de mâncare gratuită din partea Primăriei !!!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09:22:50Z</dcterms:created>
  <dc:creator> </dc:creator>
  <dc:description/>
  <dc:language>en-US</dc:language>
  <cp:lastModifiedBy> </cp:lastModifiedBy>
  <dcterms:modified xsi:type="dcterms:W3CDTF">2011-11-29T09:48:09Z</dcterms:modified>
  <cp:revision>2</cp:revision>
  <dc:subject/>
  <dc:title>Diapozitivul 1</dc:title>
</cp:coreProperties>
</file>